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7F7B-8BE7-45F4-8956-A2DA7173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2AEC-DC74-4E46-94E7-DCEC0CB0B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A181-BFB2-4EA9-8EFE-B44EDBD0C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A9F-12A9-45BA-8D3C-B6894E80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870-FD8B-4491-9EFF-B0811A2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F8A-5D55-4EF1-9099-F1B9F0B5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B56-C599-475A-9CF3-6EED1C7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A91-1EC3-40ED-9AEF-E1AC747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15C-B109-497A-A072-EC536AC5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E20-D997-4033-B7E5-1DE31E2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FD9-B4AE-40AD-A33D-79F3C3E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207-9ECF-41C0-8981-CD652C1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EA6-54BD-4F35-895F-E2BCF53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8CE-59E7-4AF6-B97A-57F623EC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814-20AA-45D2-87AE-88EEDA29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9275-4BB3-49EA-9ACB-B6AFA4E17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1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must be linked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collection not standard (need to use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(Mvomero, Kilosa, …)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-teams need to work more clos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ly involve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335480" cy="2438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4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5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AVRDC – The World Vegetable Center — avrdc.org"/>
            <p:cNvPicPr/>
            <p:nvPr/>
          </p:nvPicPr>
          <p:blipFill>
            <a:blip r:embed="rId4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maize- and rice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60948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cal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-legume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and foster agricultural biodiversi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; technologies to reduce losses and bring quality up to market standard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: FtF Zones of Influence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2" name="Content Placeholder 3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91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37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Progr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457200" y="1600200"/>
          <a:ext cx="8229600" cy="34750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verall prog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Better c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job for sub-teams (maize-legumes, rice, vegetables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tions by location (agroecology, socioeconomic and cultural aspects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selection 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Good pract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Natural resour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Post-harves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much yet due to nature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Community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FAKA and non-NAFAKA locations vary; imp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6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Odhong, Jonathan (IITA)</cp:lastModifiedBy>
  <cp:lastPrinted>2011-10-06T11:45:23Z</cp:lastPrinted>
  <dcterms:modified xsi:type="dcterms:W3CDTF">2015-07-10T14:37:00Z</dcterms:modified>
  <cp:revision>20</cp:revision>
  <dc:subject/>
  <dc:title>PowerPoint Presentation</dc:title>
</cp:coreProperties>
</file>